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451-C0DB-41A5-93A5-2A34006F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084-E52C-46D2-A401-99A84C44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D9C-60B7-4EB3-A464-C44AAD54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328-F982-456D-B2D7-3853AD01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721C-1707-4C61-AD4C-6462BCCF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87F2-1756-40D4-A572-3B446C07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0CEC-82FC-4E20-AE87-DCEE523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9B0E-606E-4B0E-B6F6-B6A6BC81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662C-E9A1-4C5D-9B71-A0D1E008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55D5-90AA-465C-99B5-A159A906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399A-3139-4D3E-A22E-3D7EF11C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D2F-75B1-4058-878E-7400F8E9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D33C-232F-495E-90B6-C153536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C611-696C-42FB-9925-35AFA579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3859-767B-47CF-91FA-881E5D40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29B5-463E-4FFA-8BB2-6BCB7D66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12B6-12AE-487E-9DFA-A4DA12F6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5BA-DC6E-4939-862C-0026EB60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49B-854C-4474-86E7-6E661492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A3F-10A4-4747-ACD5-A82AA3AE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A25-32FE-4D48-9636-16CA7ED7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520-DC44-4D5C-8255-0966B16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15A-C713-43B6-AE4A-409D229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857-3622-4B45-A75E-6E926D8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057D-1C6A-407D-A811-A92826024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31D1-AD06-4FC1-A0AD-240C83739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Наши земляки.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Герои Советского Союз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ВАЛЕРЫ ОРДЕНОВ СЛАВЫ 3-Х СТЕПЕНЕЙ,ПРИРАВНИВАЮЩИХСЯ К ГЕРОЯМ СОВЕТСКОГО СОЮЗА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ИТНЕБИ АБДУРАМАНОВ — ро­дился в 1914 г. в деревне Биюк-Каралез Бахчисарайского уезда, гвардии старший сержант, командир отделения разведчи­ков маршевой роты 37-й стрелковой ди­визии, кавалер ордена Красной Звез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СЕИТ НЕБИ АБДУРАМАНОВ"/>
          <p:cNvPicPr/>
          <p:nvPr/>
        </p:nvPicPr>
        <p:blipFill>
          <a:blip r:embed="rId1"/>
          <a:stretch/>
        </p:blipFill>
        <p:spPr>
          <a:xfrm>
            <a:off x="838080" y="1981080"/>
            <a:ext cx="280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3200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Герой Советского Союза АМЕТХАН СУЛТАН - родился 25. 10 1920 г. в г. Алупка Крымской АССР семье рабоч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Amet Han S.jpg"/>
          <p:cNvPicPr/>
          <p:nvPr/>
        </p:nvPicPr>
        <p:blipFill>
          <a:blip r:embed="rId1"/>
          <a:stretch/>
        </p:blipFill>
        <p:spPr>
          <a:xfrm>
            <a:off x="762120" y="1752480"/>
            <a:ext cx="3552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РАИМ РЕШИДОВ - Герой Со­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08. 03. 1912 г. в деревне Мамашай Севастопольского уезда. В 1934 г. окончил Одесскую военную летную шко­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АБДУРАИМ РЕШИДОВ"/>
          <p:cNvPicPr/>
          <p:nvPr/>
        </p:nvPicPr>
        <p:blipFill>
          <a:blip r:embed="rId1"/>
          <a:stretch/>
        </p:blipFill>
        <p:spPr>
          <a:xfrm>
            <a:off x="1143000" y="1828800"/>
            <a:ext cx="300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ЛЬ ТЕЙФУК- родился в 1915 г. в деревне Партенит Алуштинского района в семье крестьянина. По окончании педагогического техникума в 1935 г. работал учителем в средней школы, заведующим школы и школьным инспектором Алуштинского рай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АБДУЛЬ ТЕЙФУК"/>
          <p:cNvPicPr/>
          <p:nvPr/>
        </p:nvPicPr>
        <p:blipFill>
          <a:blip r:embed="rId1"/>
          <a:stretch/>
        </p:blipFill>
        <p:spPr>
          <a:xfrm>
            <a:off x="1143000" y="1676520"/>
            <a:ext cx="308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Советского Союза АБДУРАМАНОВ УЗЕИР АБДУРАМАНОВИЧ родился 25. 03.1916 г. 1 с. Новоандреевке Симферопольского района Крымской АССР в семье крестьянина. В 1933 г. окончил школу ФЗУ, работал кулинаром, в Советской Армии с 1939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Абдураманов Узеир Абдураманович.jpg"/>
          <p:cNvPicPr/>
          <p:nvPr/>
        </p:nvPicPr>
        <p:blipFill>
          <a:blip r:embed="rId1"/>
          <a:stretch/>
        </p:blipFill>
        <p:spPr>
          <a:xfrm>
            <a:off x="457200" y="2438280"/>
            <a:ext cx="4343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ТНАФЕ СЕИТВЕЛИЕВ -родился 29. 05. 1919 г. в д. Тав-Кипчак Карасубазарского уезда (ныне Белогорский р-н, Крым). Старший сержант, командир рас­чета 45 мм. пушек истребительно-противотанковой батареи 350 стрелкового по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ЕЙТНАФЕ СЕИТВЕЛИЕВ"/>
          <p:cNvPicPr/>
          <p:nvPr/>
        </p:nvPicPr>
        <p:blipFill>
          <a:blip r:embed="rId1"/>
          <a:stretch/>
        </p:blipFill>
        <p:spPr>
          <a:xfrm>
            <a:off x="838080" y="190512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ой Советского Союза ФЕТИСЛЯМ АБИЛОВ — родился в марте 1915 г. в дре ревне Шейх-Али Джанкойского уез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 УМЕР АКМОЛЛА АДАМАНОВ — Герой Польской Республики. Партизанская кличка — "Мишка-татарин". Родился в с. Айвасиль Ялтинского уезда, капитан гвардии Людовой, коман­дир советско-польского партизанского от­ряда им. Котовского, который в годы Ве­ликой Отечественной войны действовал на территории Поль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ЛОВ АНАТОЛИЙ АБИЛОВИЧ -командир 130-го гвардейского стрелкового полка 44-й гвардейской стрелковой диви­зии 65-й армии 1-го Белорусского фронта, гвардии под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5 марта 1915 г. в деревне Джадрашели, ныне село Ударное Джан­койского района Автономной Республики Крым (Украина), в крестьянской семье. Крымский татарин. Окончил 7 классов. Работал трактористом в колх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Анатолий Абилович Абилов.jpg"/>
          <p:cNvPicPr/>
          <p:nvPr/>
        </p:nvPicPr>
        <p:blipFill>
          <a:blip r:embed="rId1"/>
          <a:stretch/>
        </p:blipFill>
        <p:spPr>
          <a:xfrm>
            <a:off x="990720" y="1371600"/>
            <a:ext cx="307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10-21T16:23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